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A28A-7113-4CE3-AAED-BDDBC09FB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BBFA-C51A-4702-B1FD-2B2D75802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A9DC-11F5-40A4-BAC9-92B0B668A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87BB-E6A5-4C0F-B71B-CFDEB5DDA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67A8-993A-40BD-9052-DD057B762D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F5B8-8135-4341-A90A-015FF708EF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67BA-F928-4718-BC55-2EDB23E6A0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9FC6-4B8C-4C56-9CC3-1BC17090C5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B322-F6AF-40E6-9CEB-544AE55DE2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6B6D-6E0A-4B0E-BF3D-08D63F950C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EC23-9D65-4C57-9B24-516FE1769B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0DFB-709B-4882-AD93-A06C252FA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2F60-8205-4507-9152-4A516F588A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F555-8A78-425D-A2D3-514DC8750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7177-2A49-4345-9BA7-F8A407517B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F5F1-172E-4DBA-9D5C-89509AA419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EBD9-2365-43F8-9B03-351483DA35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5CF0-B408-4BD9-81B8-FF6A469C4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AC3F-F303-4326-BA7D-894D420EB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7A1D-0EE9-43F4-9D4C-59F93A0B9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5EA1-1317-4E53-9AA7-233FA1C21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B808-49FD-4CCB-B4CC-6B7B1E67C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5601-52B5-4A72-9259-C1737302E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4D85-E36E-4F3A-A01D-170488F1C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672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666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5238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2920" y="6473520"/>
            <a:ext cx="27468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6DB4-54A3-45BF-92AF-B9E7086EFC8C}" type="slidenum">
              <a:rPr b="0" lang="en-US" sz="10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22920" y="6473520"/>
            <a:ext cx="27468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88DB-CE79-490E-BAA4-419A334BAAF2}" type="slidenum">
              <a:rPr b="0" lang="en-US" sz="10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826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826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3" marL="1639800" indent="-228600">
              <a:spcBef>
                <a:spcPts val="400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4" marL="2097000" indent="-228600">
              <a:spcBef>
                <a:spcPts val="400"/>
              </a:spcBef>
              <a:buClr>
                <a:srgbClr val="000000"/>
              </a:buClr>
              <a:buFont typeface="Lucida Gran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5" marL="2097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6" marL="2097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eb.mit.edu/pugwash/www/WMD/wmd-his.html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www.hiro-tsuitokinenkan.go.jp/english/notice/photographs.html" TargetMode="External"/><Relationship Id="rId5" Type="http://schemas.openxmlformats.org/officeDocument/2006/relationships/hyperlink" Target="http://www.virginiawestern.edu/faculty/vwhansd/his112/11_ColdWar1.html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www.trumanlibrary.org/whistlestop/study_collections/bomb/large/index.php?action=photos" TargetMode="External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hyperlink" Target="http://www.trumanlibrary.org/whistlestop/study_collections/bomb/large/index.php?action=photos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google.com/imgres?imgurl=http://www.corbisimages.com/images/67/4A202470-1BF3-43FE-9D65-EA5AA3FAA2B1/PL9391.jpg&amp;imgrefurl=http://www.corbisimages.com/Enlargement/PL9391.html&amp;usg=__5QW283FME2f2txkVaHAJLsgOjUM=&amp;h=480&amp;w=361&amp;sz=86&amp;hl=en&amp;start=25&amp;itbs=1&amp;tbnid=HtqX4FL5oIZ6VM:&amp;tbnh=129&amp;tbnw=97&amp;prev=/images%25253Fq%25253Dus%25252Bdeclares%25252Bwar%25252Bon%25252BJapan%252526start%25253D18%252526hl%25253Den%252526sa%25253DN%252526gbv%25253D2%252526ndsp%25253D18%252526tbs%25253Disch: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oogle.com/imgres?imgurl=http://docs.fdrlibrary.marist.edu/images/decwars.jpg&amp;imgrefurl=http://docs.fdrlibrary.marist.edu/tmirhdee.html&amp;usg=__XLWNKUVfAnbRZcBrTMBVJRfk6Yk=&amp;h=330&amp;w=266&amp;sz=36&amp;hl=en&amp;start=26&amp;itbs=1&amp;tbnid=8YlIKaj0Y95ziM:&amp;tbnh=119&amp;tbnw=96&amp;prev=/images%25253Fq%25253Dus%25252Bdeclares%25252Bwar%25252Bon%25252BJapan%252526start%25253D18%252526hl%25253Den%252526sa%25253DN%252526gbv%25253D2%252526ndsp%25253D18%252526tbs%25253Disch:1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hyperlink" Target="http://www.google.com/imgres?imgurl=http://www.greatdreams.com/war/pearl-harbor-attack.jpg&amp;imgrefurl=http://www.greatdreams.com/war/pearl-harbor-three.htm&amp;usg=__6sVrtuLcce_9HWcnGKljbLeSfjU=&amp;h=341&amp;w=400&amp;sz=30&amp;hl=en&amp;start=4&amp;itbs=1&amp;tbnid=wUPyq3YdhJzAaM:&amp;tbnh=106&amp;tbnw=124&amp;prev=/images%25253Fq%25253Dpearl%25252Bharbor%252526hl%25253Den%252526gbv%25253D2%252526tbs%25253Disch:1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reich-chemistry.wikispaces.com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ftp.irtc.org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http://www.trumanlibrary.org/whistlestop/study_collections/bomb/large/index.php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hyperlink" Target="http://www.gwu.edu/~nsarchiv/NSAEBB/NSAEBB162/nagasaki-2.jpg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hyperlink" Target="http://archives.gov/historical-docs/todays-doc/index.html?dod-date=511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52560" y="954000"/>
            <a:ext cx="7238880" cy="5904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Grande"/>
              </a:rPr>
              <a:t>The Atomic Bomb &amp; Nuclear Technology</a:t>
            </a:r>
            <a:endParaRPr b="0" lang="en-US" sz="3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1" name=""/>
          <p:cNvSpPr/>
          <p:nvPr/>
        </p:nvSpPr>
        <p:spPr>
          <a:xfrm>
            <a:off x="800280" y="2984400"/>
            <a:ext cx="74674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How did the development of the atomic bomb and nuclear technology change the world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52920" y="6515280"/>
            <a:ext cx="35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eb.mit.edu/pugwash/www/WMD/wmd-his.ht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0840" y="1476360"/>
            <a:ext cx="4241880" cy="450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were the arguments against dropping the bomb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igh numbers of civilian casualt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tential for unfavorable public opinion in the US and other countr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tential to start a nuclear arms ra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931000" y="1168560"/>
            <a:ext cx="2997000" cy="4271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788000" y="2984400"/>
            <a:ext cx="2450880" cy="331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9880" y="6032520"/>
            <a:ext cx="5005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hiro-tsuitokinenkan.go.jp/english/notice/photographs.ht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virginiawestern.edu/faculty/vwhansd/his112/11_ColdWar1.ht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6320" y="4191120"/>
            <a:ext cx="3500280" cy="2286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0" tIns="38160" bIns="381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Hiroshima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8620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0" tIns="38160" bIns="38160" anchor="t">
            <a:normAutofit/>
          </a:bodyPr>
          <a:p>
            <a:pPr marL="266760" indent="-227160">
              <a:lnSpc>
                <a:spcPct val="8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resident Truman warned Japan that unless they surrendered, they could expect “a rain of ruin from the air”  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August 6, 1945 at 8:16 A.M., the B-29 bomber Enola Gay dropped an atomic bomb called “Little Boy” on Hiroshim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bomb released the energy equivalent of 20,000 tons of TNT, killing 70-80 thousand people and destroying 62,000 buildings instantly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6320" y="990720"/>
            <a:ext cx="2798640" cy="307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"/>
          <p:cNvSpPr/>
          <p:nvPr/>
        </p:nvSpPr>
        <p:spPr>
          <a:xfrm>
            <a:off x="88920" y="6350040"/>
            <a:ext cx="4788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?action=phot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2819520" cy="205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Nagasaki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August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, 1945 at 10:47 AM, the B-29 bomber Bockscar dropped an atomic bomb called “Fat Man” on Nagasaki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bomb released the energy equivalent of 21,000 kilotons of TNT,  killing 70 thousand people instantly, eventually bringing the death toll to 210 thousan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September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Grande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, 1945 Japan officially surrendered aboard the United States Battleship Missouri in Tokyo Bay ending World War II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23040" y="990720"/>
            <a:ext cx="2362320" cy="281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"/>
          <p:cNvSpPr/>
          <p:nvPr/>
        </p:nvSpPr>
        <p:spPr>
          <a:xfrm>
            <a:off x="88920" y="6350040"/>
            <a:ext cx="4788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?action=phot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Changes to the World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6200" y="14479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298800" indent="-29880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as it necessary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stimated loss of lif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elp or hurt the future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ternatives to the bomb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ea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did you discover in your grou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we gain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lives of 500,000 American soldie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nding the wa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we los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lives of 210,000 Japanes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oss of input and productivity from all deceased individuals on both sid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295280" y="3276720"/>
            <a:ext cx="24955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102120" y="4267080"/>
            <a:ext cx="1698480" cy="198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962520"/>
            <a:ext cx="1317600" cy="1752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US and Japanese Conflict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419720"/>
            <a:ext cx="1160640" cy="1438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930’s – 1940’s Japan is expanding its empi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 imposes oil embargo on Japan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8/1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Japan bombs Pearl Harbor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2/7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 Declares war on Japan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2/8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2933640" y="2666880"/>
            <a:ext cx="80028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5315040" y="1905120"/>
            <a:ext cx="62856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4038480"/>
            <a:ext cx="2286000" cy="195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143000"/>
            <a:ext cx="8699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ackground on the US and Japanese conflict leading to the use of the atomic bomb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How did the bomb lead to new lines of scientific inquiry and affect how people live and work?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209680" cy="2025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781680" y="1676520"/>
            <a:ext cx="2133720" cy="278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752480" y="4419720"/>
            <a:ext cx="22924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648320" y="4419720"/>
            <a:ext cx="2690640" cy="2282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Background Knowledge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5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120680"/>
            <a:ext cx="434340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is radiat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ph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am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’s so special about uranium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29200" y="101916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067360" y="3632040"/>
            <a:ext cx="3276720" cy="285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396120"/>
            <a:ext cx="45846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www.reich-chemistry.wikispaces.co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10082"/>
                </a:solidFill>
                <a:uFillTx/>
                <a:latin typeface="Lucida Grande"/>
              </a:rPr>
              <a:t>www.mei.gov.on.c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7100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00240" y="1272960"/>
            <a:ext cx="4343400" cy="468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does a fission bomb work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adioactive uranium atoms get to close togeth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does a fusion bomb work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ydrogen isotopes react to form heliu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79360" y="114300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91960" y="4051440"/>
            <a:ext cx="3733920" cy="2484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5308560" y="5811840"/>
            <a:ext cx="3746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www.ftp.irtc.or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10082"/>
                </a:solidFill>
                <a:uFillTx/>
                <a:latin typeface="Lucida Grande"/>
              </a:rPr>
              <a:t>www.lancs.ac.uk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Grande"/>
              </a:rPr>
              <a:t>Peaceful Uses of Nuclear Technology</a:t>
            </a:r>
            <a:endParaRPr b="0" lang="en-US" sz="3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324080"/>
            <a:ext cx="434340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uclear Ener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: It’s “green energy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: It produces nuclear was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rradi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: It allows food to stay fresh for a long tim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: There could be other side effe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5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029200" y="38862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00240" y="1082520"/>
            <a:ext cx="4343400" cy="275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agencies participated in the decision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xecutive Branch (President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cientis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partment of Defens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Joint Chief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eteorologis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3391200" cy="4267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51040" y="1892160"/>
            <a:ext cx="3390840" cy="4089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00600" y="3924360"/>
            <a:ext cx="4343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factors contributed to the selection of Hiroshima and Nagasaki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avorable weather cond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dustrial targe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ck of prior bomb damag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070680"/>
            <a:ext cx="4788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Gill Sans"/>
              </a:rPr>
              <a:t>http://www.gwu.edu/~nsarchiv/NSAEBB/NSAEBB162/index.htm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9320" y="1133280"/>
            <a:ext cx="4343400" cy="21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ere did the scientists want the bomb to be dropped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Japan (Oppenheimer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Uninhabited island (Chicago Metallurgical Lab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048120"/>
            <a:ext cx="4343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y an uninhabited island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ublic opin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event nuclear arms ra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btain multinational support before use against populated area Where did the scientists want the bomb to be dropped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49840" y="1128600"/>
            <a:ext cx="4241880" cy="5373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920" y="6527880"/>
            <a:ext cx="465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gwu.edu/~nsarchiv/NSAEBB/NSAEBB162/nagasaki-2.jp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00240" y="1082520"/>
            <a:ext cx="4343400" cy="546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298800" indent="-29880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factors influenced the decision to drop the bomb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evious casualties during the war in the Pacifi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jected casualties for a land invasion of Japan and Kore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desperate measures taken by the Japanese militar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availability of a new weap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ck of desire to wait an additional three months to begin the land invas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o justify the expense of develop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3040" y="3021120"/>
            <a:ext cx="4267440" cy="3444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03040" y="1130400"/>
            <a:ext cx="4526280" cy="1879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296280" y="6527880"/>
            <a:ext cx="52581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archives.gov/historical-docs/todays-doc/index.html?dod-date=5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ile</dc:creator>
  <dc:description/>
  <cp:keywords/>
  <dc:language>en-US</dc:language>
  <cp:lastModifiedBy>Gina Bua</cp:lastModifiedBy>
  <dcterms:modified xsi:type="dcterms:W3CDTF">2010-08-17T07:02:13Z</dcterms:modified>
  <cp:revision>2</cp:revision>
  <dc:subject/>
  <dc:title>Hiroshima</dc:title>
</cp:coreProperties>
</file>